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251E-78BB-47F8-80F9-1B456221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9543-3DE9-4EAF-A443-3949BE2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8EC7-3069-4EAB-80C2-2B791009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7F52-C964-4D14-8D02-10C12FFF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B03E-20EC-4361-A970-60B65DFD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E41E-11F6-4911-B515-DA757C31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E0A4-8CF7-40E5-9807-21D6EBA6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5B65-455A-4F9D-8642-8F61A042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F44A-AC2C-4D61-AF52-1BD26A5B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3EAA-AC1A-452E-A906-ACC698E7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046B-FB03-4DC2-B247-6472CF4F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DD3D-E844-4DA2-A253-C7627592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57BC-24F8-484E-BB63-E0B2519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7393-DE8C-42F6-B3B4-F010B907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570B-098B-4101-B2DE-5BC961A9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5511-5F94-472B-8C0E-85E245B7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8DF4-5294-4E76-9805-65107600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1947-C69D-4100-84FE-6062E677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A4B8-50F5-4F58-BCE9-FF4E0481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2E62-A0EC-4198-80B5-2D2B1081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0903-A819-4670-B7E2-144DD93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1EDD-98C5-49DE-95B3-877054A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FF26-69F4-40CA-9D3E-E3EB878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072D-9EF9-4E70-8C71-0D3B4FA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142B-EB85-4276-AED6-329D6EB5FA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A5A4-3E59-499B-9301-4CAA9D498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eterite v. Imperfec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= reoccurring actions / repeating actions/ actions inter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Él asistía a la escuela todos los dí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comía al mediodía cada almuerz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lavaba los platos cuando tú  me llamaste por teléfon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MCj01358170000[1]"/>
          <p:cNvPicPr/>
          <p:nvPr/>
        </p:nvPicPr>
        <p:blipFill>
          <a:blip r:embed="rId1"/>
          <a:stretch/>
        </p:blipFill>
        <p:spPr>
          <a:xfrm>
            <a:off x="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j01358170000[1]"/>
          <p:cNvPicPr/>
          <p:nvPr/>
        </p:nvPicPr>
        <p:blipFill>
          <a:blip r:embed="rId2"/>
          <a:stretch/>
        </p:blipFill>
        <p:spPr>
          <a:xfrm>
            <a:off x="9144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Cj01358170000[1]"/>
          <p:cNvPicPr/>
          <p:nvPr/>
        </p:nvPicPr>
        <p:blipFill>
          <a:blip r:embed="rId3"/>
          <a:stretch/>
        </p:blipFill>
        <p:spPr>
          <a:xfrm>
            <a:off x="17524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Cj01358170000[1]"/>
          <p:cNvPicPr/>
          <p:nvPr/>
        </p:nvPicPr>
        <p:blipFill>
          <a:blip r:embed="rId4"/>
          <a:stretch/>
        </p:blipFill>
        <p:spPr>
          <a:xfrm>
            <a:off x="25909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MCj01358170000[1]"/>
          <p:cNvPicPr/>
          <p:nvPr/>
        </p:nvPicPr>
        <p:blipFill>
          <a:blip r:embed="rId5"/>
          <a:stretch/>
        </p:blipFill>
        <p:spPr>
          <a:xfrm>
            <a:off x="34290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MCj01358170000[1]"/>
          <p:cNvPicPr/>
          <p:nvPr/>
        </p:nvPicPr>
        <p:blipFill>
          <a:blip r:embed="rId6"/>
          <a:stretch/>
        </p:blipFill>
        <p:spPr>
          <a:xfrm>
            <a:off x="42670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MCj01358170000[1]"/>
          <p:cNvPicPr/>
          <p:nvPr/>
        </p:nvPicPr>
        <p:blipFill>
          <a:blip r:embed="rId7"/>
          <a:stretch/>
        </p:blipFill>
        <p:spPr>
          <a:xfrm>
            <a:off x="51055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Cj01358170000[1]"/>
          <p:cNvPicPr/>
          <p:nvPr/>
        </p:nvPicPr>
        <p:blipFill>
          <a:blip r:embed="rId8"/>
          <a:stretch/>
        </p:blipFill>
        <p:spPr>
          <a:xfrm>
            <a:off x="594360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MCj01358170000[1]"/>
          <p:cNvPicPr/>
          <p:nvPr/>
        </p:nvPicPr>
        <p:blipFill>
          <a:blip r:embed="rId9"/>
          <a:stretch/>
        </p:blipFill>
        <p:spPr>
          <a:xfrm>
            <a:off x="693432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MCj01358170000[1]"/>
          <p:cNvPicPr/>
          <p:nvPr/>
        </p:nvPicPr>
        <p:blipFill>
          <a:blip r:embed="rId10"/>
          <a:stretch/>
        </p:blipFill>
        <p:spPr>
          <a:xfrm>
            <a:off x="7924680" y="5265720"/>
            <a:ext cx="14479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are words usually associated with the imperfect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66680" y="2513160"/>
            <a:ext cx="365760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s las no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meses.. añ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emp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m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876920" y="2470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n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vez en cuan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entr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niño(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jov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1600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are words usually associated with the preterite.  However, make sure PWATER is not “in play.”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066680" y="2514600"/>
            <a:ext cx="365760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e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mes pas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día pas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a ve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rep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oc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 or imperfec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to describe peop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ell ti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mplete or interrupted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d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ed or habitual ac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 –i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ing an emo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verb tense in which actions are done and over – never to be repea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4" descr="MMj03365540000[1]"/>
          <p:cNvPicPr/>
          <p:nvPr/>
        </p:nvPicPr>
        <p:blipFill>
          <a:blip r:embed="rId1"/>
          <a:stretch/>
        </p:blipFill>
        <p:spPr>
          <a:xfrm>
            <a:off x="1752480" y="3959280"/>
            <a:ext cx="714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051360" y="411480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ce the action is done, it is not to be repeat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 examp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 estudié por el examen en histor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sotros vimos a 311 el año pas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los dieron las presentaciónes ay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ú hablaste con el presidente anteay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la se cepilló el pelo anoch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tense to describe events which happen in the past that deal with P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 = physical descriptions or 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 era alta y él era baj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ra bonita y jove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ras gordi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MCj0397766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905120"/>
            <a:ext cx="784872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= wea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acía sol ay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lovía mucho en abri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nevaba en noviembre much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MCj01990210000[1]"/>
          <p:cNvPicPr/>
          <p:nvPr/>
        </p:nvPicPr>
        <p:blipFill>
          <a:blip r:embed="rId1"/>
          <a:stretch/>
        </p:blipFill>
        <p:spPr>
          <a:xfrm>
            <a:off x="457200" y="0"/>
            <a:ext cx="2176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= age (chronologic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tenían siete años el año pasa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tenía diez años cuando yo compré mi propia bicicle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sotros teníamos un año cuando Nosotros tomamos lecciónes de nata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MMj02838990000[1]"/>
          <p:cNvPicPr/>
          <p:nvPr/>
        </p:nvPicPr>
        <p:blipFill>
          <a:blip r:embed="rId1"/>
          <a:stretch/>
        </p:blipFill>
        <p:spPr>
          <a:xfrm>
            <a:off x="7315200" y="4876920"/>
            <a:ext cx="132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 = time (numb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 a la una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siete de la mañ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dos menos tres de la tar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MMj03368530000[1]"/>
          <p:cNvPicPr/>
          <p:nvPr/>
        </p:nvPicPr>
        <p:blipFill>
          <a:blip r:embed="rId1"/>
          <a:stretch/>
        </p:blipFill>
        <p:spPr>
          <a:xfrm>
            <a:off x="6781680" y="533520"/>
            <a:ext cx="7160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=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staba conten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estaban enojado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stabas preocupado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MCj0232599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Cj02320490000[1]"/>
          <p:cNvPicPr/>
          <p:nvPr/>
        </p:nvPicPr>
        <p:blipFill>
          <a:blip r:embed="rId2"/>
          <a:stretch/>
        </p:blipFill>
        <p:spPr>
          <a:xfrm>
            <a:off x="7238880" y="4724280"/>
            <a:ext cx="1706760" cy="186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Cj02934900000[1]"/>
          <p:cNvPicPr/>
          <p:nvPr/>
        </p:nvPicPr>
        <p:blipFill>
          <a:blip r:embed="rId3"/>
          <a:stretch/>
        </p:blipFill>
        <p:spPr>
          <a:xfrm>
            <a:off x="533520" y="304920"/>
            <a:ext cx="1831680" cy="112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Cj02991390000[1]"/>
          <p:cNvPicPr/>
          <p:nvPr/>
        </p:nvPicPr>
        <p:blipFill>
          <a:blip r:embed="rId4"/>
          <a:stretch/>
        </p:blipFill>
        <p:spPr>
          <a:xfrm>
            <a:off x="0" y="5369040"/>
            <a:ext cx="1825560" cy="148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Cj02392050000[1]"/>
          <p:cNvPicPr/>
          <p:nvPr/>
        </p:nvPicPr>
        <p:blipFill>
          <a:blip r:embed="rId5"/>
          <a:stretch/>
        </p:blipFill>
        <p:spPr>
          <a:xfrm>
            <a:off x="7238880" y="2362320"/>
            <a:ext cx="1511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6:42:11Z</dcterms:created>
  <dc:creator>lhagemeier</dc:creator>
  <dc:description/>
  <dc:language>en-US</dc:language>
  <cp:lastModifiedBy>Box Elder School District</cp:lastModifiedBy>
  <dcterms:modified xsi:type="dcterms:W3CDTF">2012-03-12T15:06:49Z</dcterms:modified>
  <cp:revision>7</cp:revision>
  <dc:subject/>
  <dc:title>Preterite v. Imperfect</dc:title>
</cp:coreProperties>
</file>